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9B899-091F-40C3-A9D6-B478B1AD9B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ndidates of 18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mocrats – Lewis Cass – old war veteran, proponent of popular sovereign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igs – Zachary Taylor – hero of M-A war, no former experience, slave own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ee-Soilers – MVB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ort Wilmot Proviso, no expansion of slavery, promote settl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ee soil, speech, labor, and m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iforn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very of Gold fuels popul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 government – no infrastru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stitution prohibits slave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unaway iss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rthern assis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rriet Tub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l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ifornia changes bal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xas – New Mexico disputed territ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.C. issues of slave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0A16-3C13-4D93-B162-8BB24A0E1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C713-4C68-4DFB-82DC-383F70A51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22B8-76E8-4DBB-854E-64431A6C8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FB7D-1124-43B4-83D2-D1FB6EADA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0BAB-DAF5-4868-ACF9-42BBBA193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106F-8114-42B3-93DE-89AE3F04D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132D-2C81-43B0-B81A-4354CD86F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B68B-FC89-4209-BA8D-117223C2B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01CC-08F1-4C36-887E-19FA58954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3C7E-7E8B-4BFF-B429-983F2440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64E2-5434-4756-81F0-9B8A6B63D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4847-58D7-4063-AC63-3BA7EABD5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4249A-AE96-48F1-AD7B-091774C65A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5 Reading Keys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ifest Destin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ges 462-47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ifest Desti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 it necessary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oostook War (not in the boo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eg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sue &amp; Out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sue &amp; Out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k’s Administra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ges 470-47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ion of 184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sues with Mex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dell 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xican – American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mot Proviso (mentioned on pg 48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ture imp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aty of Guadalupe Hidal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iforni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ges 477-48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ifornia G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ion of 18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-Soil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r Sovereign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13:09:58Z</dcterms:created>
  <dc:creator>School District U46</dc:creator>
  <dc:description/>
  <dc:language>en-US</dc:language>
  <cp:lastModifiedBy>School District U46</cp:lastModifiedBy>
  <dcterms:modified xsi:type="dcterms:W3CDTF">2009-11-09T13:10:03Z</dcterms:modified>
  <cp:revision>1</cp:revision>
  <dc:subject/>
  <dc:title>U5 Reading Keys Part 2</dc:title>
</cp:coreProperties>
</file>